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4.png" ContentType="image/png"/>
  <Override PartName="/ppt/media/image13.png" ContentType="image/png"/>
  <Override PartName="/ppt/media/image5.png" ContentType="image/png"/>
  <Override PartName="/ppt/media/password.wav" ContentType="audio/x-wav"/>
  <Override PartName="/ppt/media/image10.png" ContentType="image/png"/>
  <Override PartName="/ppt/media/image2.jpeg" ContentType="image/jpeg"/>
  <Override PartName="/ppt/media/image9.png" ContentType="image/png"/>
  <Override PartName="/ppt/media/buzzer.wav" ContentType="audio/x-wav"/>
  <Override PartName="/ppt/media/image6.png" ContentType="image/png"/>
  <Override PartName="/ppt/media/image11.png" ContentType="image/png"/>
  <Override PartName="/ppt/media/image15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4662-F6D9-484F-BBF7-201FFC752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E22C-F3CA-4DCA-8B76-0FAB4DB0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B061-DA3F-436B-AA25-CC3A15518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8B0A-A55B-4098-B87B-D198B964D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3FB6-201C-498E-B420-75C435B9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CCF2-B231-4B69-9E6A-A73EEA18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E427-0086-4566-89F1-73FB5D23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CD58-73E3-425C-8A90-B699F9EA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2A5E-FC32-4EC2-A7B7-C215D7A4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8FF6-2342-444E-A2FC-EFD5D93F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5488-E9C8-48FF-81A3-363FA440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4FEA-64FA-4FDD-8664-EC335944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DEAD-DD0A-45E3-BE6A-71C82DEA8A0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4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password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00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Vocabulary Review Acti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6" descr="shh"/>
          <p:cNvPicPr/>
          <p:nvPr/>
        </p:nvPicPr>
        <p:blipFill>
          <a:blip r:embed="rId1"/>
          <a:stretch/>
        </p:blipFill>
        <p:spPr>
          <a:xfrm>
            <a:off x="3657600" y="4572000"/>
            <a:ext cx="2057400" cy="1863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password1"/>
          <p:cNvPicPr/>
          <p:nvPr/>
        </p:nvPicPr>
        <p:blipFill>
          <a:blip r:embed="rId2"/>
          <a:stretch/>
        </p:blipFill>
        <p:spPr>
          <a:xfrm>
            <a:off x="1447920" y="1905120"/>
            <a:ext cx="5981760" cy="1562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3" name="passwor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22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24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40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41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43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2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60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62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8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20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78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79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81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8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97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98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00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80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20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up Directions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523520"/>
            <a:ext cx="7313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ype a vocabulary word on each of the following 10 slides in the subtitle textbox.  When complete, run the show by pressing F5 on the keyboar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ne student stands with back to this present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class gives the student clues to the vocabulary word onscreen as a clock keeps tim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student tries to guess the word before the buzz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6699"/>
                </a:solidFill>
                <a:latin typeface="Arial"/>
              </a:rPr>
              <a:t>Ready to play?</a:t>
            </a:r>
            <a:endParaRPr b="0" lang="en-US" sz="6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1" name="Picture 4" descr="password"/>
          <p:cNvPicPr/>
          <p:nvPr/>
        </p:nvPicPr>
        <p:blipFill>
          <a:blip r:embed="rId1"/>
          <a:stretch/>
        </p:blipFill>
        <p:spPr>
          <a:xfrm>
            <a:off x="2514600" y="2209680"/>
            <a:ext cx="441000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5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21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08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10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6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2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27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29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8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46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48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64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65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67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84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03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05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4T00:20:42Z</dcterms:created>
  <dc:creator>Connie Campbell</dc:creator>
  <dc:description/>
  <dc:language>en-US</dc:language>
  <cp:lastModifiedBy>SCS</cp:lastModifiedBy>
  <dcterms:modified xsi:type="dcterms:W3CDTF">2008-01-12T17:45:36Z</dcterms:modified>
  <cp:revision>8</cp:revision>
  <dc:subject/>
  <dc:title>Password</dc:title>
</cp:coreProperties>
</file>